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D442-FA30-4C5E-8690-8E8D56CE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853-4B80-48B4-A42A-70AB79DF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08D-7810-47D5-B17C-039BFFF8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A3C-FC92-4226-A066-CE87BB58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A59-9D9C-432E-967A-1C908B90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E01-F327-471E-B026-AE94AF5E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268-7BFA-4AD9-8241-B46A6DB6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EE82-B0ED-447E-9914-F954AFF8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EC4-08F8-451D-A398-55811930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CC6-CE91-479B-9B84-085F70BC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732-7B1E-471A-AC7C-D7A34677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F6D-9023-4B73-8FB2-380117B0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C25F-55FA-4A3D-9D13-7FECCD126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 рисования на тему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Рисование с натуры или по представлению мамонтенка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4608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Формирование графического умения и навыка в изображении предметов сложной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Развивать наблюд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Воспитывать любовь к природе, гордость за свой кр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3780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онтенок Люба был найден в мае 2007 года на берегу реки Юрибей в Ямальском районе Ямало-Ненецкого автономного округа. Нашел его оленевод Юрий Худи, в честь жены оленевода и назвали мамонтен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761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а оказалась уникальной находкой – ее тело очень хорошо сохранилось, уцелели и кожные покровы, и внутренние органы животного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9480" y="1700280"/>
            <a:ext cx="6845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а гиб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жила  42 тыс. лет назад,   погибла в возрасте нескольких месяцев и сейчас у специалистов уже не осталось сомнений относительно причин ее смерти – Люба утонула в р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67280" y="3500280"/>
            <a:ext cx="4752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 этом свидетельствует большое количество речного ила, обнаруженного в желудке мамонтенка. Кроме того, ученые не нашли никаких признаков болезни, истощения или травм на теле мамонтенка. Видимо, Люба провалилась под лед и утонула, а холодная вода защитила тело от хищников и от разложени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беспечило сохранность тела в течение десятков тысяч лет в вечной мерзлоте, а затем предотвратило разложение и уничтожение его падальщиками в течение почти года после того, как тело было вымыто из мерзлоты течением реки. Поскольку тело мамонтёнка было найдено в мае, то есть до того, как вскрывается река, учёные предполагают, что оно было вынесено течением на поверхность за год до момента находки, во время половодья в июне 200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550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два года, прошедшие с момента находки, Люба уже успела попутешествовать – сначала мамонтенка доставили в Салехард, в музейно-выставочный комплекс имени Шемановского, затем перевезли для более детального изучения в Санкт-Петербур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844640"/>
            <a:ext cx="60962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008 году Любу возили в Японию, где специалисты методом трехмерной томографии просканировали все тело животного и получили изображения всех его внутренних органо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45328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2735280" cy="295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914560" cy="352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132000" y="2637000"/>
            <a:ext cx="2808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апы выполнения рису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192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7:29:23Z</dcterms:created>
  <dc:creator>Наталья Аликеевна</dc:creator>
  <dc:description/>
  <dc:language>en-US</dc:language>
  <cp:lastModifiedBy>Наталья Аликеевна</cp:lastModifiedBy>
  <dcterms:modified xsi:type="dcterms:W3CDTF">2010-11-20T06:05:53Z</dcterms:modified>
  <cp:revision>11</cp:revision>
  <dc:subject/>
  <dc:title> Урок рисования на тему «мамонтенок Люба» </dc:title>
</cp:coreProperties>
</file>